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1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4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84C-E1B7-4D8A-85E0-2C786042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DB5-0021-4FD6-B738-92AD4761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2C6-432D-494D-8DD9-6967B70E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D34-E08B-411F-B999-58A3F4F3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165-7DCD-4E8A-83F3-33E32970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128-D80D-49D1-BF1F-F2C505D1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F66-C167-452D-AD2E-B93C2BFC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E2B-AF63-4DC4-AFD0-A669ECBF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7A4-0F9E-493E-ACB2-26C05869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91F-E4E0-454C-BBC5-F0D2F805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B2F-D46B-49A7-9470-5C136936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B8C-7CA4-47F7-9CA3-E5069094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DA46-EAD0-486C-BC27-AD5DD6CA26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rumosaic.ru/blog/foto/d194f8282f98_15065/image002.gif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kastyle.com.ua/images/gallery/800/Avto/2.jp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kastyle.com.ua/images/gallery/800/Ext/3.jp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201C-257D-423D-B976-A952E654B4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МХ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Ученица 10-го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МОУ СОШ №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22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г.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Сыктывкара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Эживин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57200" y="685800"/>
            <a:ext cx="81342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кусство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колумбовой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мерики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5485-AD98-4F5C-BF07-64D08AAAE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457200" y="304920"/>
            <a:ext cx="807732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кусство ацтеков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После гибели Теотихуакана Центральная Мексика на долгие десятилетия становится ареной драматических и бурных событий. Среди воинственных пришельцев были теночки-ацтеки (асте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Ацтеки пришли в долину Мехико с севера и в XIV веке основали свою столицу Тенотчитлан. В 1427 в союзе с городами-государствами Тескоко и Тлакопаном подчинили себе население долины Мехико и всей центральной Мекс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 1519—21 ацтеки были завоёваны испан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Бог радост, музыки и танца сапотеков. Мехико. Национальный музей."/>
          <p:cNvPicPr/>
          <p:nvPr/>
        </p:nvPicPr>
        <p:blipFill>
          <a:blip r:embed="rId1"/>
          <a:stretch/>
        </p:blipFill>
        <p:spPr>
          <a:xfrm>
            <a:off x="6019920" y="1752480"/>
            <a:ext cx="2819160" cy="42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5C2E-2FD9-40EA-851F-D9B27F6E5B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толица «империи» —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Теночтитлан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— («плодовое дерево, растущее из камня») со временем превратилась в огромный город, площадь которого составляла около 1200 га, а количество жителей, по разным оценкам, достигало 120—300 тыс человек.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762120" y="304920"/>
            <a:ext cx="79246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цтекская скульптур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Picture 9" descr="Маска ацтекского божества Тескатлипоки"/>
          <p:cNvPicPr/>
          <p:nvPr/>
        </p:nvPicPr>
        <p:blipFill>
          <a:blip r:embed="rId1"/>
          <a:stretch/>
        </p:blipFill>
        <p:spPr>
          <a:xfrm>
            <a:off x="4419720" y="1219320"/>
            <a:ext cx="2438280" cy="2895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7086600" y="16002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Человеческий череп, покрытый мозаикой из бирюзы и обсидиа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image0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53080" y="4267080"/>
            <a:ext cx="2362320" cy="1981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4419720" y="48006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ерьги. Доколумбова эпо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2C33-7AE8-4BA5-B765-1D1C03C79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1320-3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80880" y="380880"/>
            <a:ext cx="2743200" cy="4191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"/>
          <p:cNvSpPr/>
          <p:nvPr/>
        </p:nvSpPr>
        <p:spPr>
          <a:xfrm>
            <a:off x="304920" y="4724280"/>
            <a:ext cx="2895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итуальная ур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(дета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I в. до н. 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Культура ацтеков.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5" descr="image003"/>
          <p:cNvPicPr/>
          <p:nvPr/>
        </p:nvPicPr>
        <p:blipFill>
          <a:blip r:embed="rId2"/>
          <a:stretch/>
        </p:blipFill>
        <p:spPr>
          <a:xfrm>
            <a:off x="3505320" y="457200"/>
            <a:ext cx="533376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6"/>
          <p:cNvSpPr/>
          <p:nvPr/>
        </p:nvSpPr>
        <p:spPr>
          <a:xfrm>
            <a:off x="4648320" y="502920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Двуглавая ацтекская змея, выложенная мозаикой из бирюз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8EFF-FA22-49E4-B290-844B45230A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0005446"/>
          <p:cNvPicPr/>
          <p:nvPr/>
        </p:nvPicPr>
        <p:blipFill>
          <a:blip r:embed="rId1"/>
          <a:stretch/>
        </p:blipFill>
        <p:spPr>
          <a:xfrm>
            <a:off x="228600" y="228600"/>
            <a:ext cx="6350040" cy="62355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6934320" y="685800"/>
            <a:ext cx="198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Солнечный камень» –солнечный календарь индейцев-ацтеков. Этот каменный календарь, где за основу расчета времени были приняты закономернос-ти движения Cолн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8120" y="64911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Современная копия, выполненная в метал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B789-C226-4A8D-B058-FA3F914B4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epiolmec_map"/>
          <p:cNvPicPr/>
          <p:nvPr/>
        </p:nvPicPr>
        <p:blipFill>
          <a:blip r:embed="rId1"/>
          <a:stretch/>
        </p:blipFill>
        <p:spPr>
          <a:xfrm>
            <a:off x="0" y="1419120"/>
            <a:ext cx="9144000" cy="543888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304920" y="0"/>
            <a:ext cx="8839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удожественная культура майя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E5CE-B01F-451A-82E6-023A77EF22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олуостров Юкатан"/>
          <p:cNvPicPr/>
          <p:nvPr/>
        </p:nvPicPr>
        <p:blipFill>
          <a:blip r:embed="rId1"/>
          <a:stretch/>
        </p:blipFill>
        <p:spPr>
          <a:xfrm>
            <a:off x="228600" y="380880"/>
            <a:ext cx="3581280" cy="6019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Южная часть полуострова Юкатан. Здесь в долинах рек майя строили свои города"/>
          <p:cNvPicPr/>
          <p:nvPr/>
        </p:nvPicPr>
        <p:blipFill>
          <a:blip r:embed="rId2"/>
          <a:stretch/>
        </p:blipFill>
        <p:spPr>
          <a:xfrm>
            <a:off x="4267080" y="304920"/>
            <a:ext cx="4572000" cy="2590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4267080" y="32004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Как ни удивительно, но более двух веков после испанского завоевания ни ученые, ни авантюристы не придавали особого значения полуострову Юкатан. Может быть, из-за жаркого климата, а скорей всего, из-за явного недостатка там минеральных ресурсов. Лишь в XIX веке там было обнаружено множество величественных городов, сооруженных древними майя...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C582-29E3-42D9-972C-D7F7A4CD03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572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Майя, словно бросая вызов судьбе, надолго обосновались в негостеприимных центральноамериканских джунглях, выстроив там свои белокаменные города. За пятнадцать веков до Колумба они изобрели точный солнечный календарь и создали единственную в Америке развитую иероглифическую письменность, использовали в математике понятие нуля, уверенно предсказывали солнечные и лунные затмения. Уже в первые века нашей эры они достигли поразительного совершенства в архитектуре, скульптуре и живописи.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1320-1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4724280" y="5791320"/>
            <a:ext cx="4419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Храм Кастильо. XI — 1-я половина XII в. Чичен-Ица (Мексика). Культура майя.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0879-3F09-49E3-9DCB-DD6EF7BBD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Там, где народ майя когда-то жил, изучал звезды и строил свои пирамиды, теперь буйствуют джунгли (город Паленке)"/>
          <p:cNvPicPr/>
          <p:nvPr/>
        </p:nvPicPr>
        <p:blipFill>
          <a:blip r:embed="rId1"/>
          <a:stretch/>
        </p:blipFill>
        <p:spPr>
          <a:xfrm>
            <a:off x="304920" y="533520"/>
            <a:ext cx="3809880" cy="472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«Женский монастырь» в Ушмале"/>
          <p:cNvPicPr/>
          <p:nvPr/>
        </p:nvPicPr>
        <p:blipFill>
          <a:blip r:embed="rId2"/>
          <a:stretch/>
        </p:blipFill>
        <p:spPr>
          <a:xfrm>
            <a:off x="4724280" y="533520"/>
            <a:ext cx="4038840" cy="4724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1752480" y="56386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ТАИНСТВЕННЫЕ РАЗВАЛИНЫ: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следы великой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42F8-6B27-4BEB-81C3-43046C875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Главная достопримечательность Чичен-Ицы. Эта пирамида представляет собой мощный каменный и отнюдь не устаревший календарь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880" y="304920"/>
            <a:ext cx="8382240" cy="4724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533520" y="5257800"/>
            <a:ext cx="792468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ИРАМИДА КУКУЛЬКАН.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Главной достопримечательностью Чичен-Ицы является пирамида Кукулькан. Ее еще называют «Эль-Кастильо» (что в переводе с испанского означает «замок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05F8-F1BE-4B7A-AED5-DF9DF86E9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Империя инков - богатая и высокоразвитая страна, владения которой занимали большие пространства на западе южноамериканского контине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ласть и авторитет инков распространялись от современной южной Колумбии на севере до Чили на юге, захватывая нынешние Эквадор, Перу и Боливию.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толица царства располагалась в городе Кус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380880" y="380880"/>
            <a:ext cx="8382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удожественная культура инков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Picture 9" descr="город Куско"/>
          <p:cNvPicPr/>
          <p:nvPr/>
        </p:nvPicPr>
        <p:blipFill>
          <a:blip r:embed="rId1"/>
          <a:stretch/>
        </p:blipFill>
        <p:spPr>
          <a:xfrm>
            <a:off x="4724280" y="1600200"/>
            <a:ext cx="4114800" cy="3200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5105520" y="5029200"/>
            <a:ext cx="35049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Город Куско своими очертаниями напоминает силуэт гигантской пумы.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род Пумы – так его называют сегодня современ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1FE6-71DE-40A3-8C66-8D7C5146C8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990720" y="22860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 урока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304920" y="1295280"/>
            <a:ext cx="8534160" cy="502920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143000" y="2209680"/>
            <a:ext cx="6705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Общие сведения о контине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Художественная культура ольме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Искусство ацте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Художественная культура май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99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Искусство ин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E671-C696-42FC-9F62-FAD1290A0A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248160" y="380520"/>
            <a:ext cx="2895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Инки (правильнее инка) - создатели одной из древнейших цивилизаций в Южной Америке. Первоначально индейское племя языковой семьи кечуа, обитавшее в XI-XIII веках на территории современного Перу, позже господствующий слой, а также верховный правитель в образованном ими государстве Тауантинсуйу (XV ве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золотая маска"/>
          <p:cNvPicPr/>
          <p:nvPr/>
        </p:nvPicPr>
        <p:blipFill>
          <a:blip r:embed="rId1"/>
          <a:stretch/>
        </p:blipFill>
        <p:spPr>
          <a:xfrm>
            <a:off x="304920" y="380880"/>
            <a:ext cx="2590560" cy="2667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228600" y="3276720"/>
            <a:ext cx="1600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Золотая маска периода культуры ин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Фигура Инки"/>
          <p:cNvPicPr/>
          <p:nvPr/>
        </p:nvPicPr>
        <p:blipFill>
          <a:blip r:embed="rId2"/>
          <a:stretch/>
        </p:blipFill>
        <p:spPr>
          <a:xfrm>
            <a:off x="4495680" y="228600"/>
            <a:ext cx="1733760" cy="49528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4572000" y="533412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Верховный правитель И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1320-2"/>
          <p:cNvPicPr/>
          <p:nvPr/>
        </p:nvPicPr>
        <p:blipFill>
          <a:blip r:embed="rId3"/>
          <a:stretch/>
        </p:blipFill>
        <p:spPr>
          <a:xfrm>
            <a:off x="2514600" y="3352680"/>
            <a:ext cx="1790640" cy="3257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4"/>
          <p:cNvSpPr/>
          <p:nvPr/>
        </p:nvSpPr>
        <p:spPr>
          <a:xfrm>
            <a:off x="228600" y="53341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Сосуд. Керамика. Культура ин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21EE-0538-4720-965F-145221363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мачу пикчу"/>
          <p:cNvPicPr/>
          <p:nvPr/>
        </p:nvPicPr>
        <p:blipFill>
          <a:blip r:embed="rId1"/>
          <a:stretch/>
        </p:blipFill>
        <p:spPr>
          <a:xfrm>
            <a:off x="228600" y="304920"/>
            <a:ext cx="380988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4343400" y="228600"/>
            <a:ext cx="4800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Здание Кариканче (храма Солнца) в Куско было опоясано карнизом из чистого золота, впаянного в камни. Не только статуя Солнца, но и статуи других богов (бога-творца Виракочи, бога грома и молнии и т.д.), а также знаменитый большой диск, олицетворяющий Инку, — были сделаны из золота. В храме находились и многочисленные золотые музыкальные инструменты, например, барабаны, украшенные к тому же еще и драгоценными камн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762120" y="533520"/>
            <a:ext cx="3028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рам Солнц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3694-C152-4056-9AD1-ACB5E2790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895120" y="129492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К зданию Кариканче примыкало еще одно чудо из чудес — так называемый «золотой сад Куско». Древняя легенда рассказывает, что все, что в этом саду росло, цвело и летало, тоже было сделано из чистого золота. Все, что жители великой империи видели вокруг себя, они воспроизвели в этом саду: клочки полей, маис, стада лам с их детенышами, 24 индейских пастуха, «срывающих» золотые плоды с золотых ябло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культура инков"/>
          <p:cNvPicPr/>
          <p:nvPr/>
        </p:nvPicPr>
        <p:blipFill>
          <a:blip r:embed="rId1"/>
          <a:stretch/>
        </p:blipFill>
        <p:spPr>
          <a:xfrm>
            <a:off x="228600" y="1219320"/>
            <a:ext cx="2390760" cy="518148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685800" y="228600"/>
            <a:ext cx="81532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 инков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9" descr="золото инков"/>
          <p:cNvPicPr/>
          <p:nvPr/>
        </p:nvPicPr>
        <p:blipFill>
          <a:blip r:embed="rId2"/>
          <a:stretch/>
        </p:blipFill>
        <p:spPr>
          <a:xfrm>
            <a:off x="6934320" y="1143000"/>
            <a:ext cx="1828800" cy="1790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инки"/>
          <p:cNvPicPr/>
          <p:nvPr/>
        </p:nvPicPr>
        <p:blipFill>
          <a:blip r:embed="rId3"/>
          <a:stretch/>
        </p:blipFill>
        <p:spPr>
          <a:xfrm>
            <a:off x="6705720" y="3352680"/>
            <a:ext cx="2133360" cy="321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DF66-2E37-49FD-8DDA-D4D425A096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РИТУАЛЬНЫЙ НОЖ ИНКОВ"/>
          <p:cNvPicPr/>
          <p:nvPr/>
        </p:nvPicPr>
        <p:blipFill>
          <a:blip r:embed="rId1"/>
          <a:stretch/>
        </p:blipFill>
        <p:spPr>
          <a:xfrm>
            <a:off x="228600" y="304920"/>
            <a:ext cx="3581280" cy="5790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0" y="6248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РИТУАЛЬНЫЙ НОЖ  ИН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per1"/>
          <p:cNvPicPr/>
          <p:nvPr/>
        </p:nvPicPr>
        <p:blipFill>
          <a:blip r:embed="rId2"/>
          <a:stretch/>
        </p:blipFill>
        <p:spPr>
          <a:xfrm>
            <a:off x="4267080" y="22860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F95F-7E82-4050-9412-4D8AB27E56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Утверждение всемогущества и величия священного бо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Культ пред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Праславление побед над вра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Возвеличивание правителей и верховной зн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228600" y="304920"/>
            <a:ext cx="8543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арактерные особенности</a:t>
            </a:r>
            <a:endParaRPr b="0" i="1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i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кусства народов </a:t>
            </a:r>
            <a:endParaRPr b="0" i="1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колумбовой Америки </a:t>
            </a:r>
            <a:endParaRPr b="0" i="1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oldenfish.nm.ru/index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mayaruin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anomalia.kulichki.ru/text5/200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ountries.ru/library/ancient/civ_amer.htm#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FE3C-A643-4BA4-8436-6998468A2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CBCC-789D-4EE3-89E3-0B7378C4CD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eru_map"/>
          <p:cNvPicPr/>
          <p:nvPr/>
        </p:nvPicPr>
        <p:blipFill>
          <a:blip r:embed="rId1"/>
          <a:stretch/>
        </p:blipFill>
        <p:spPr>
          <a:xfrm>
            <a:off x="0" y="0"/>
            <a:ext cx="4191120" cy="4152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index_map"/>
          <p:cNvPicPr/>
          <p:nvPr/>
        </p:nvPicPr>
        <p:blipFill>
          <a:blip r:embed="rId2"/>
          <a:stretch/>
        </p:blipFill>
        <p:spPr>
          <a:xfrm>
            <a:off x="4419720" y="2984400"/>
            <a:ext cx="4724280" cy="3873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343400" y="533520"/>
            <a:ext cx="4648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 тому времени, когда испанские корабли появились у восточного побережья Нового Света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9900"/>
                </a:solidFill>
                <a:latin typeface="Arial"/>
              </a:rPr>
              <a:t>когда это произошло?)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, этот огромный континент, включая острова Вест-Индии, был населен множеством индейских племен и народностей, находившихся на разных уровнях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0" y="4114800"/>
            <a:ext cx="4648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Большинство из них были охотниками, рыболовами, собирателями или примитивными земледельцами, лишь в двух сравнительно небольших областях западного полушария— в Мезоамерике и Андах — испанцы встретили высокоразвитые индейские циви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0B5D-BA3E-4BA4-9911-F6972AE28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3886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а их территории родились наивысшие культурные достижения доколумбовой Аме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К моменту ее «открытия», в 1492 г , там жило до 2/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всего населения континента, хотя по своим размерам эти области составляли лишь 6,2% общей его площади. Именно здесь на рубеже нашей эры возникают самобытные цивилизации предков науа, майя, сапотеков, кечуа, аймара и др.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untitled 2"/>
          <p:cNvPicPr/>
          <p:nvPr/>
        </p:nvPicPr>
        <p:blipFill>
          <a:blip r:embed="rId1"/>
          <a:stretch/>
        </p:blipFill>
        <p:spPr>
          <a:xfrm>
            <a:off x="4648320" y="304920"/>
            <a:ext cx="3962160" cy="37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4267080"/>
            <a:ext cx="3886200" cy="243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6DCF-B555-4C03-A555-9D97B0EB3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9214925f03d772439cc7f2cc46bd7b59_full"/>
          <p:cNvPicPr/>
          <p:nvPr/>
        </p:nvPicPr>
        <p:blipFill>
          <a:blip r:embed="rId1"/>
          <a:stretch/>
        </p:blipFill>
        <p:spPr>
          <a:xfrm>
            <a:off x="304920" y="228600"/>
            <a:ext cx="3809880" cy="40384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28600" y="4572000"/>
            <a:ext cx="85345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В научной литературе эта территория получила наз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Срединная Америка или Зона высоких цивилизаций.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Она подразделяется на два района северный — Мезоамерика и южный — Андская область (Боливия — Перу), с Промежуточной зоной между ними (южная часть Центральной Америки, Колумбия, Эквадор), где культурные достижения хотя и достигли значительной степени, но так и не поднялись до вершин государственности и циви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304920"/>
            <a:ext cx="3581280" cy="396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9039-802B-4DCB-AA52-8F20E2151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86200" y="380880"/>
            <a:ext cx="5029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Новый Свет представляет собой и уникальную историческую лабораторию, поскольку процесс развития местной культуры происходил в целом самостоятельно, начиная от эпохи позднего палеолита (30— 20 тыс. лет назад)—времени заселения континента из Северо-Восточной Азии через Берингов пролив и Аляску—и до тех пор, пока ему не был положен конец нашествием европейских завоева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БОЛИВИЯ"/>
          <p:cNvPicPr/>
          <p:nvPr/>
        </p:nvPicPr>
        <p:blipFill>
          <a:blip r:embed="rId1"/>
          <a:stretch/>
        </p:blipFill>
        <p:spPr>
          <a:xfrm>
            <a:off x="380880" y="380880"/>
            <a:ext cx="3276720" cy="335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БОЛИВИЯ"/>
          <p:cNvPicPr/>
          <p:nvPr/>
        </p:nvPicPr>
        <p:blipFill>
          <a:blip r:embed="rId2"/>
          <a:stretch/>
        </p:blipFill>
        <p:spPr>
          <a:xfrm>
            <a:off x="304920" y="3962520"/>
            <a:ext cx="3352680" cy="259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papaya4"/>
          <p:cNvPicPr/>
          <p:nvPr/>
        </p:nvPicPr>
        <p:blipFill>
          <a:blip r:embed="rId3"/>
          <a:stretch/>
        </p:blipFill>
        <p:spPr>
          <a:xfrm>
            <a:off x="7086600" y="4114800"/>
            <a:ext cx="177804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carica_papaya1"/>
          <p:cNvPicPr/>
          <p:nvPr/>
        </p:nvPicPr>
        <p:blipFill>
          <a:blip r:embed="rId4"/>
          <a:stretch/>
        </p:blipFill>
        <p:spPr>
          <a:xfrm>
            <a:off x="4038480" y="4114800"/>
            <a:ext cx="2667240" cy="251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371520" y="0"/>
            <a:ext cx="8424720" cy="1547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«Первая цивилизация» Мезоамерики—культура «ольмеков» на южном побережье Мексиканского залива (Табаско, Веракрус). Население этих областей в начале I тыс. до н. э. (800— 400 гг. до н. э.) достигло высокого уровня культуры: в это время появляются первые «ритуальные центры» в Ла-Венте, Сан-Лоренсо и Трес-Сапотес, сооружаются пирамиды из адобов (самана) и глины, устанавливаются резные каменные монументы с сюжетами преимущественно мифологического и религиозного содерж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4194-7370-497D-9696-392DD3C972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DAF1-16E9-4A1A-8479-C24F157386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160" y="7617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Цивилизация ольмеков, корни которой восходят к XIV-XV векам до н.э., остается на сегодня едва ли не самой таинственной и неизученной на территории Мекс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Ольмеки считаются одним из первых народов на всем континенте, создавшим государственность и культуру, которая оказала мощное влияние на все последующие доколумбовые цивилизации Мексики и Центральной Аме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ерования, мифы, мировосприятие ольмеков были унаследованы в той или иной степени империями древних майя и ацте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До сих пор остаются загадкой причины исчезновения этой цивилизации, оставившей многочисленные памятники в мексиканских штатах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еракрус, Табаско и Герреро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876920" y="456876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82FE-63F9-4AB6-AC7B-FBE97D038A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 50 км к северо-востоку от г. Мехико, там, где высокие горные хребты расступаются, образуя большую и плодородную долину, находятся руины Теотихуакана — в прошлом столицы древнейшей цивилизации Центральной Мексики. По подсчетам ученых, к 600 г. н. э.— моменту наивысшего расцвета— общая территория города составляла свыше 18 кв. км, а население— от 60 до 120 тыс.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762120" y="228600"/>
            <a:ext cx="7162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отихуакан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6" name="Picture 5" descr="Сапотекские города"/>
          <p:cNvPicPr/>
          <p:nvPr/>
        </p:nvPicPr>
        <p:blipFill>
          <a:blip r:embed="rId1"/>
          <a:stretch/>
        </p:blipFill>
        <p:spPr>
          <a:xfrm>
            <a:off x="4800600" y="1523880"/>
            <a:ext cx="4076640" cy="47246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4952880" y="1828800"/>
            <a:ext cx="304920" cy="380880"/>
          </a:xfrm>
          <a:prstGeom prst="irregularSeal1">
            <a:avLst/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имова Галина Михайловна</dc:creator>
  <dc:description/>
  <cp:keywords>инки майя ольмеки ацтеки золото инков культура</cp:keywords>
  <dc:language>en-US</dc:language>
  <cp:lastModifiedBy>Наташа</cp:lastModifiedBy>
  <dcterms:modified xsi:type="dcterms:W3CDTF">2010-04-26T07:08:54Z</dcterms:modified>
  <cp:revision>17</cp:revision>
  <dc:subject>МХК-10</dc:subject>
  <dc:title>Искусство доколумбовой Аме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